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B2F-C2FA-464C-BF71-B0D37BEB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68C-3C96-4F33-A4B9-3015D50C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497-019D-44FA-B2B3-8BDC4C16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42E-088F-4CBA-92E2-AFBDB95B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8C2-841E-4089-A35C-61E2B96C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9E0-9BB5-4C2F-B331-6A7106B4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52E-ACFD-4DBF-BC7B-55B35C40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AC4-3C49-432D-9A53-F6CCF55D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CE2-51E9-4C64-86AE-6B061CA3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1A8-61FF-4F00-9D7F-BBE7B190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10A-8D15-4C35-9805-943CAA8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63E-0C9B-468A-9DBB-D7C159F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6988-3446-47AC-A203-C78033E43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50 years of extreme minimum temperature indicate climate chang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580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:  NOAA weather sta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6846120" y="106668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sh, Tracy, Ja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hart 7" descr=""/>
          <p:cNvPicPr/>
          <p:nvPr/>
        </p:nvPicPr>
        <p:blipFill>
          <a:blip r:embed="rId1"/>
          <a:stretch/>
        </p:blipFill>
        <p:spPr>
          <a:xfrm>
            <a:off x="146160" y="1365120"/>
            <a:ext cx="88516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533520" y="5335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clear trend that is displayed by this data set, 50 years of data cannot indicate climate change because the time range is too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33520" y="41148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1,000 years of data indic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Jaime Tardif</cp:lastModifiedBy>
  <dcterms:modified xsi:type="dcterms:W3CDTF">2009-01-14T23:20:21Z</dcterms:modified>
  <cp:revision>10</cp:revision>
  <dc:subject/>
  <dc:title>PowerPoint Presentation</dc:title>
</cp:coreProperties>
</file>